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CC6E-10D7-4D69-A495-07E75C24F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CF0-88EF-4282-9A23-2CB34879712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77C-BD50-4D9E-A6A0-C0AE149B18D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F423-4B2C-4AE9-BC25-69B99E5538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1A8-E0EA-4104-B6C7-67EBD327F27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B82-81EC-45BC-9A5E-E2D073B549A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6A8-09A8-4A30-AC67-E7C5AAEF956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658E-E450-4494-9AC0-FC43F43540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82B4-8186-42B0-8B64-8026F13997C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D58-4238-430F-B539-3AE97E9C8EB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FFE-7736-4358-AD2E-5F59555E7E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674D-8179-4C42-A073-6DB429105C4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E68-0E94-48A8-8A47-60237E2559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787-F1F6-4517-8291-029AAE6AF02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CA3-ECFB-4328-B936-90068E67BA0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A5B3-3C22-4EC0-9304-9ECEF63B65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4266-B1CD-4EC3-9D73-AD40F4C24C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94D2-FC92-4002-944C-4FF68261E03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11AD-218D-40D0-9459-D6426062D6C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2055-4392-4244-B8C8-27CD31F8B3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A5F-A15B-4F74-AF45-74ECAD15229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ED0-E8B7-4082-8817-F529C9A8AAB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8DFD-6829-48DD-A847-294D5A228B8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98C-927B-4718-9700-47CDE775D7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2458-63A8-406B-B157-8409921B3B4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2B06-75C9-4680-9D02-6D4E4899B77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137C-31C1-454D-B587-A9D871F61C7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B936-BC04-422F-A83D-B618800B8AC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3FA9-8475-459E-A29C-A5E620CF95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EA4-5AEC-4AFC-ADC3-3948839FE7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AFC0-C1F6-4241-A600-A56BEAC5E0C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CEA7-F0FF-4F8F-BC80-D94F733761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51A1-105E-4F4F-8E2C-17EB951EC3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235-77E9-4540-B7A2-E2D9B48CA45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24D7-6ECE-4F57-BB15-C9C1CBC5FA1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B56-5544-408E-A946-B69C250AE53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B217-19DC-442D-9B39-E919D298838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D77-A504-441E-8CE2-AC5003CF60F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30DF-A202-48FC-A415-8B40FBA7C23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65A6-CFFD-4CC2-BA0E-89901EAEDE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48EE-6173-4D9D-A8DC-2C826645D6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A80-B04A-4215-A169-8BA4D8846D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021-C7F5-456F-B579-B5EF34A341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9EC8-07F3-4AFB-936A-7D7D2B5EC9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BB7-4A49-42E0-805B-DA4F469953B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AA1-79F2-4997-84F5-7B56F35ECC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406B-9B35-46BE-AC1A-BA5A9C68392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B6D1-0DFB-4F00-9696-D13AAE445E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A8C3-872D-434E-8070-DBDC92324AE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A3D4-2207-47BB-878E-D29B4806451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094-A6B4-45DF-8FAA-F92749A2FB7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92B2-4637-4915-855F-244BEE550AA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A98-3B6E-45C4-A05B-16A5720FCD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6EA-9C1E-4327-8136-5122A16DAE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275-EDEE-4836-8FE4-5B188EF817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B03A-FF77-4E77-86AF-4C33BC65E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D767-7C90-4A06-A170-9F57006AC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43CF-1F57-4EBC-BBEF-140DFBD80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F840-8647-4723-8FEB-D04A3102C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352E-025D-43B9-A43F-EE0088554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C5F3-EB60-43BB-940D-219EB70E6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1FD3-72AB-4FF6-B173-5DCE33A49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4B7A-C5DD-4443-A722-EACE90542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536A-80AB-43E5-ABCC-2FFA49372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EACC-3A28-4D88-84F1-D571EDFA5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0B1A-BF47-4DEF-B627-3413B6E21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C533-0541-40C7-8CB8-E708C6D7A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13E0-95A9-4DE8-9625-096CAE8A6B06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7574040" y="63504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82680" y="58752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C84-3174-43E2-9AC7-2122B647515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8BA4-594F-41AF-B3EC-D45B7E05D46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6AC9-A2B9-430D-B363-8A571D63878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EAE-3478-4175-9C80-8423FC695B6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4C09-CEDE-4BD8-AD9A-662399347D1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49A4-307D-4AB4-9F47-FFC66C1FC14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3563-5DCE-42A9-AB33-11F1F004B8C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957-4815-4457-B2FE-69222EE69C7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37B3-7D7F-4BE8-801E-95A3C7EA3DD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D5B5-B72C-4999-948E-2CB39321FCD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659-D4F9-4369-8942-0F4AE24BDC1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01F3-5E41-40A8-99F8-1838C7D565B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2AD6-D811-4750-9BD3-63D937F344B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8A5-6F1D-4939-98FB-1ACEC5A7645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779-770F-41EF-BFA3-3CDE1BEA78A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510B-1741-4854-B685-4F0EA4B9084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D122-F1AE-45B7-A310-3CE1EDF5983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932-936E-4BA5-87CF-C2FBA4B2673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69A1-C81B-4AB5-880E-A327CFC131F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A09-7D21-4256-9FF5-AD531CA7BD6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143-BF3A-404C-AD7D-2951E36058C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4F1C-4CA7-410F-8CE8-9461B32950B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BF68-E79F-40D9-86B2-B7926B09EDE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351-270F-4603-B106-0273EDCC2CC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F6A-E35E-4775-B5F3-F044803F44E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B617-A641-4456-934A-A9C55C12449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E79-03DC-43B4-9CEC-E9B743F27A9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3EFA-7045-49A9-A867-BE0FAB97CB8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081-ABFF-469C-A631-DBBE429AB17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EA0-1871-4CC7-BBD9-4E8F7BB442E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53D-7071-42C1-B41E-332B0A3A5F6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6FE-D565-4096-8599-8433319000D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5880-2DE4-434E-84C9-DB7E670E2B5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0B1-ECDE-4566-828E-6C8CD5739E2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23EA-D1DB-49F4-9F62-A6E94232F47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3751-DF33-46DC-89E7-70A2AD35F1F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C4E5-B6A9-4095-A723-920A6813BD0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84A3-FE2F-419C-BCB7-73BB8EF6BF7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C771-30F7-41A6-8CA0-BEB8144FB9D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538-D835-4C8F-BA39-7F9EBF2BE3C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267-6BA9-4372-BA32-D976C078140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9CD3-2710-4045-B9A1-34274F45915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62E-53B0-4646-A3F1-04296569822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AC89-33AA-42A6-8BDE-6A6C8C72901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6376-B832-4B17-8A31-67EA0E43E6D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7179-DA05-4269-967B-FB40ACA6FD2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62DE-9E6E-4348-91E6-C6B148B4BA9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6943-79FF-431A-B313-30382EAB43E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A17-59D4-41BD-BDDD-199589EC738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B18D-CB11-4D88-A9C3-BEF2D26E8F4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3818-43AD-4874-A1B7-F17F696E001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AA1-6FE3-4856-8E03-04066042F12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93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1710-3C4B-4FA7-AB61-18C1DF4681B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Levent SAGIROGLU (BilgeAdam)</cp:lastModifiedBy>
  <dcterms:modified xsi:type="dcterms:W3CDTF">2009-05-07T16:02:08Z</dcterms:modified>
  <cp:revision>143</cp:revision>
  <dc:subject/>
  <dc:title>Forum Presentation</dc:title>
</cp:coreProperties>
</file>